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15C3-58C4-41AA-BDE4-245C2D71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A96E-A507-4868-828C-D6F01766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388A-DE32-416C-B444-BF0DD7AF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9D7F-3B9C-4A62-928F-ADFE83B7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6A95-DDDC-460A-BE61-90A0ADFD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68E2-E4F2-426F-B41A-1025BD29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4221-8588-4E9F-A013-9EF02FAA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1116-7836-4415-A143-762D3E1F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ED9F-CCBE-40C2-824C-6CAFAF97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A1DC-50A0-4129-A623-74DF7535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6459-8A75-45E2-A1CC-F06A5B38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A6D9-6DA5-40FA-9E33-5F1E8ADE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0030-2236-4BAA-BDA8-3B5DCA359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79200" y="0"/>
            <a:ext cx="92232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 Light"/>
              </a:rPr>
              <a:t>8.</a:t>
            </a:r>
            <a:r>
              <a:rPr b="1" i="1" lang="el-GR" sz="2400" spc="-1" strike="noStrike">
                <a:solidFill>
                  <a:srgbClr val="000000"/>
                </a:solidFill>
                <a:latin typeface="Calibri Light"/>
              </a:rPr>
              <a:t>Συνθήκες  -παράγοντες για έναν υγιή ύπνο: (σελ.6</a:t>
            </a:r>
            <a:r>
              <a:rPr b="1" i="1" lang="en-US" sz="2400" spc="-1" strike="noStrike">
                <a:solidFill>
                  <a:srgbClr val="000000"/>
                </a:solidFill>
                <a:latin typeface="Calibri Light"/>
              </a:rPr>
              <a:t>5</a:t>
            </a:r>
            <a:r>
              <a:rPr b="1" i="1" lang="el-GR" sz="2400" spc="-1" strike="noStrike">
                <a:solidFill>
                  <a:srgbClr val="000000"/>
                </a:solidFill>
                <a:latin typeface="Calibri Ligh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714240"/>
            <a:ext cx="9144000" cy="3268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Ένα παιδί πρέπει να κοιμάται καθημερινά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– 10 ώρες.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λό είναι να πηγαίνει κάθε βράδυ την ίδια ώρα για ύπνο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ια έναν καλό ύπνο χρειάζοντα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τάλληλο </a:t>
            </a:r>
            <a:r>
              <a:rPr b="1" i="1" lang="el-GR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στρώμα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ωστή </a:t>
            </a:r>
            <a:r>
              <a:rPr b="1" i="1" lang="el-GR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θερμοκρασία δωματίου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 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αθμούς κελσίου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πουσία </a:t>
            </a:r>
            <a:r>
              <a:rPr b="1" i="1" lang="el-GR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φωτισμού</a:t>
            </a:r>
            <a:r>
              <a:rPr b="0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ή ύπαρξη χαμηλού φωτισμού όταν χρειάζεται για να κοιμηθεί ένα άτομ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6283440" y="5811840"/>
            <a:ext cx="2495520" cy="1046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4"/>
          <a:stretch/>
        </p:blipFill>
        <p:spPr>
          <a:xfrm>
            <a:off x="0" y="5730840"/>
            <a:ext cx="2567160" cy="1127160"/>
          </a:xfrm>
          <a:prstGeom prst="rect">
            <a:avLst/>
          </a:prstGeom>
          <a:ln w="0">
            <a:noFill/>
          </a:ln>
        </p:spPr>
      </p:pic>
      <p:sp>
        <p:nvSpPr>
          <p:cNvPr id="45" name="Content Placeholder 2"/>
          <p:cNvSpPr/>
          <p:nvPr/>
        </p:nvSpPr>
        <p:spPr>
          <a:xfrm>
            <a:off x="0" y="3672000"/>
            <a:ext cx="9144000" cy="20588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α </a:t>
            </a:r>
            <a:r>
              <a:rPr b="1" i="1" lang="el-G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έπιπλα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τα περιττά έπιπλα αποτρέπουν την ξεκούραση και την χαλάρωση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ο </a:t>
            </a:r>
            <a:r>
              <a:rPr b="1" i="1" lang="el-G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διάβασμα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βοηθά στον ύπνο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ο </a:t>
            </a:r>
            <a:r>
              <a:rPr b="1" i="1" lang="el-G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ραδιόφωνο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ή </a:t>
            </a:r>
            <a:r>
              <a:rPr b="1" i="1" lang="el-G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τηλεόραση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αρκεί να μην μένει ανοιχτό κατά την διάρκεια της νύχτα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 ισορροπημένη </a:t>
            </a:r>
            <a:r>
              <a:rPr b="1" i="1" lang="el-G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διατροφή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όχι καφέ, «βαριά» φαγητά αργά το βράδ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21T08:11:08Z</dcterms:created>
  <dc:creator>Era</dc:creator>
  <dc:description/>
  <dc:language>en-US</dc:language>
  <cp:lastModifiedBy>ΑΛΕΞΑΝΔΡΟΣ</cp:lastModifiedBy>
  <dcterms:modified xsi:type="dcterms:W3CDTF">2019-02-07T19:49:50Z</dcterms:modified>
  <cp:revision>57</cp:revision>
  <dc:subject/>
  <dc:title>PowerPoint Presentation</dc:title>
</cp:coreProperties>
</file>